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94E-849E-4EC3-9966-18F67E63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B64-B3FF-4F52-9B9B-28729CF3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1E0-4553-45CC-A76D-74BDC420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6C2-A558-457E-B250-BA76F3AE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57B-B578-4F40-96CD-0A30FED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968-81F7-4F3C-9482-6B6A0A8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533-F423-4C56-B35A-1D12997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0E7-83FB-414C-A7D9-4A89EB6C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C19-2896-4D33-AAA9-08423FDF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833-3378-41A5-9ADD-5734B66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52E-A5BC-49B7-B16E-414A6D27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4F4-4CCB-4C97-B70E-EF24DB5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5FD-73FC-4700-B489-FE6F52D7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 helper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reg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finition of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-positive, alpha-beta 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6Z</dcterms:modified>
  <cp:revision>9</cp:revision>
  <dc:subject/>
  <dc:title>The Cell Ontology</dc:title>
</cp:coreProperties>
</file>